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0F5-9158-45C4-B976-556ADDA4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A3A-E64C-4137-A088-7CE0C67C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252-A0C0-42D0-A992-66A50555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E25-6F47-44FA-AD77-2C10D362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6D1D-C016-4810-83D4-0967E1F9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7A9B-9C16-47E9-A61A-E2644452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8368-6FEA-4E03-AE9F-795118BC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0764-BF6D-46AF-B7CD-98CD39B0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85C6-49E5-45FB-8E3B-16D03BA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534D-43C5-4721-BBB8-6FCA4941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343E-3DE0-445E-8D96-B960DE02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772-13FD-4528-B9FF-9B3DD970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68E7-DEDB-405E-820E-772EA909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2D77-20A9-4CE9-B623-9727AA48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7D45-CFD8-4AC7-9C83-16BE57AB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3C90-8688-4976-9220-B4BE5FCF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5EB8-A272-4C47-AA22-8973512D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1FB-EA54-49B4-AFAF-B12C3068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484-3028-4986-A249-08B23042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75F-4205-44E0-B863-73A570EB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ACA-3E1C-4508-BFAC-7B60DF45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EC2-B68E-4E71-9BFF-0BA97C8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C3A-1FCF-4957-9485-D96A1E81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857-C30F-436C-BE4C-2A84DF7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345D-F724-4BD7-AD86-640745571F9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68C5-333B-4960-AE0C-65EEC4EEDF3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reshmen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O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relessness:mistakes::_________:________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the relationship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-Exampl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tions:consequen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lationship is cause and effe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Vocabulary Practice-Fill in the blank with the vocabulary word that fits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was called upon to serve______ as a member of the boar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_________ on the woman’s right to vo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carries herself with such ______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is the ________ of considerati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e is so ________ to be mean to her younger bro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cused Freewri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f you could spend one year in perfect happiness but afterward you would remember nothing of the experience would you do so? If not, why no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o Kill a Mockingbir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a summary of ch. 1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workshe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ad ch. 15 for tomorrow</a:t>
            </a: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46:21Z</dcterms:created>
  <dc:creator>rebecca</dc:creator>
  <dc:description/>
  <dc:language>en-US</dc:language>
  <cp:lastModifiedBy>rebecca</cp:lastModifiedBy>
  <dcterms:modified xsi:type="dcterms:W3CDTF">2009-02-18T19:17:43Z</dcterms:modified>
  <cp:revision>2</cp:revision>
  <dc:subject/>
  <dc:title>DOA</dc:title>
</cp:coreProperties>
</file>